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213-3DEA-4452-AED4-5889E87D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BDD-2F6A-4F6A-976C-590B4B26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16E-B144-4146-90C0-59647D4F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DEB-9EBB-4903-B864-5DF0C45E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813-2083-450C-B48E-99618409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0CE-405C-4B11-A811-FDFF2145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EFD-FA9A-40F6-822C-332C404E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E47-21FE-4151-91B2-D48FF350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06D-9F6B-4ACF-A7C4-D8FE14E6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CA6-0158-42FD-BC44-20B2D764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39C-5483-4F6B-805A-6B41798B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34F-19BC-4779-891F-5B55D879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D001-476C-4E5E-9CFC-00AF80898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loomberg.com/markets/rates-bonds/government-bonds/us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ECONOMICS IN ON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123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HE ECONOMY-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THE ECONOMY-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CITS/SURPLUSES AND D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and should the government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and Monetar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N CURRENT DOLLARS- NOT ADJUSTED FOR PRICE INDEX (LEVEL)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Dollar (Nominal GDP) is adjusted by the Price Index.  The Price Index is determined by the extent that inflation or deflation has effected the value of a Dollar ($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ear – not too far off-- selected to act as the base yea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ny change in the value of the Dollar the Price Index is 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increase in prices would result in a Price Index of 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% decrease in prices would result in a Price index of .9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- The final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e year GDP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YEAR GDP divided by 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(constant dollar GDP)= Nominal (current dollar G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Year GDP is Nominal GDP divided by the New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YR2/price index y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GOOD MEASUREMENT FOR EVALUATING THE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81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DURING THE DEPRESSION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iod with 40% decrease in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s record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ansactions are not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they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cor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uld it affec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GDP A MEASUR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IS OFTEN USED AS A MEANS OF MEASURING ONE COUNTRIES OUTPUT OR WELL-BEING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THE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Department and Commerce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eau of Economic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- Real GDP of 3-4.5% -&gt;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’s the economy hea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per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hours work in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sent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atitistics can help us understand what the economy is doing at this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ing 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rate- payroll fig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I (producer Price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#s should tell us how bad the economy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 – Consumer Pric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rate charged by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to income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- Peak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spect—GROWTH-Bigger pie to share, possible Budget Surpl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- T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?-Not many, causes businesses to streamline-&gt;become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-&gt;loads-&gt;Unemployment, lower incomes, social ills- BIG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er R. Reagan- the Difference btw Recession and Depr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y neighbor loses his/her job-&gt;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lose my job-&gt;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DOMESTIC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THE TOTAL OUTPUT OF THE ECONOMY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ALUE approx $18Trillion (nomi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urplus/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Government Spending and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nu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evel- Primarily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imes, revenue up, bad times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Ta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ies good and ba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as a % of economy, lowest on record-&gt;14.8% of economy-&gt; appr $1.5 Trillion def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-2000 good times brought in high tax revenue-&gt; SURPL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purchases and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-go down? May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on- sky rocketSSS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UNTERCYCLICAL POLIC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eynesian economics- jump start the economy through government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imulus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UTOMATIC STABILIZERS---UNEMPLOYMENT INSURANCE, WELFARE, FOOD ST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st year Government expenditures 25% of economy—60 year recor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cits/Debt and Sur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lculate Government Spending less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itive—Surplus (rare), some say ba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gative- Deficit (common) some say good, unless unwieldly or if it “crowds ou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—if you regularly run deficits you’ll create Debt (debt is accumulated defic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Deficit/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Reces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expenditure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revenue- Historically incredibly l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—HUGE DEFICITs -10%+ OF ECONOMY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 trillion dollar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rties contribute to Deficit—Dems—spending side, Reps-revenu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bt- approx. $18Trillion –is that big? Deficits since 1960s except under Cl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5 deficit $465 Billion- 2014 $483 bill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97 b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w deficit recorded in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/Deficits and serv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off debt-&gt; servicing the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bonds!- different mat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maturity and interest rate positively cor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price determines its interest rate-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00 bond 2yrs- (value at the end of the term)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loomberg.com/markets/rates-bonds/government-bonds/u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governmen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rians-NADA- Laissez-Faire—have faith it’ll all work out, don’t screw up th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rrecting? Say’s Law?-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else---someth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POLICY- TAX AND SPEND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- MONEY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CAL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Branch and Legislativ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Propose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passes bills—creat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and Spend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---pass bills that reduce taxes and spend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Management Budget-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 of Economic Ad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, Commerce, Labor et.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ressional Budget OfficeC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ys and Means Committee, Budget et.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, Commerce et.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, Money, and Mo Mone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’s in 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DERAL RE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1913- STABILIZE THE GROWTH OF THE MONEY SUPPLY, OVERSEE AND REGULATE THE BANKING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Reserve Chairman- appointed by President- 4 year term- TODAY BEN BERN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Federal Reserve- Is INDEPENDENT OF THE POLITICAL PROCE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the Thermo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hot-uh oh! Inflation?--slow down the economy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cold-uh oh! Unemployment?----heat up the economy-&gt; lower 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ation/De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-&gt;value of a $ declines, takes more $$$ to buy the same set of goods/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tion-&gt;value $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helps people who borrow at fixed rates, hurts people who lend and people on a fixed income (deflation is oppo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inflation-current 1% (3/2016), post WW2 high was appr. 12% in the late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inflation- 100s of %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Inflation/Defl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tate? Under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-&gt; PRIC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inflation- CPI—basket of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 Price Inflation- PPI (cost of resources for Produc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corporate a base year as a unit of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lie with the “basket” of goods– improvements-and bells and whistles often aren’t fully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PUTION + INVESTMENT + GOVERNMENT SPENDING + (EXPORTS-IMPO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/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Force -&gt;population employed or actively looking for work (16-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Participation Rate-&gt; Labor Force divided by Total # of people 16-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- actively looking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measurement, underemployment, part-time employment, underground economy, those who gave up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- Changes in what society produces, how it produces it, where it produ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, auto worker unemployed in Mi. but position for high tech Google unfilled in 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ical- Consistent with the business cycle- good times low-bad time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- EG Those who left their jobs voluntarily but don’t’ yet have another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ways count on rough 3 to 4%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147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mployment Rate et. 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yclical Unemployment tied to Phillips Curve— Inflation and Unemployment inversely rel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rrent Unemployment Rate 5.0% (3/2016), peak post War- early 1980s 10%.  Depression?- 25%, Great Recession –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today- Long Term Unemployed—social ill- How to get back in the Labor Fo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gflation—late 70s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high inflation, high unemployment and slow growth (pushed out Phillips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must grow by 2% to keep unemployment from 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lement programs will be a big problem in 10+ years may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economy will exacerbate deficit/debt problems—Keynes might say—so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ffer Curv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 taxes-&gt; more govt revenu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true at current tax levels, though taxes do cause people to change their behavior and does increase undergrou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-70% OF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ED” (ON THE BOOKS) SALE OF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NCLUDE ILLEGAL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LE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ALUE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STOCK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, MACHINE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USED TO PRODUCE A GOOD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I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SP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OVERNMENT SPENDING, BUT NOT TRANSFER PAY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(WASHINGTON D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(HARTF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(DARI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OD TIMES GOVERNMENT SPENDING LOWER THAN IN BA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nsfer payments- payments that go from one person to another..ie medic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RTS &amp; IM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SOLD ABROAD (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AND SERVICE FROM ABROAD PURCHASED IN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way to measure G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oney earned in a given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al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GDP (C+I+G +(X-M))=Income GDP (see ab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G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ADJUSTED TO REFLECT INFLATION OR DE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ARE APPLES TO AP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“CONSTANT” DOLLAR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1:28:55Z</dcterms:created>
  <dc:creator>Darien Public Schools</dc:creator>
  <dc:description/>
  <dc:language>en-US</dc:language>
  <cp:lastModifiedBy>Administrator</cp:lastModifiedBy>
  <dcterms:modified xsi:type="dcterms:W3CDTF">2016-04-04T13:15:49Z</dcterms:modified>
  <cp:revision>27</cp:revision>
  <dc:subject/>
  <dc:title>gdp</dc:title>
</cp:coreProperties>
</file>